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E772-4606-49F3-AA5E-4FF64F78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B1E-C891-4808-958E-3FDF5D2B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738-9B76-4F77-AD2B-80AC8D3B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C85D-21A9-4E44-8421-388C0E4A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555E65-563B-46D7-A65F-D6033C7E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9BA33-4B28-4F03-82DE-ABFF5D3B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EC61D-01C3-4B52-86AC-BC7DAA935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92EA-3530-4274-B84E-2D009484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B88ED-D225-4206-ADDC-0BE9361F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F1C352-F128-4D6B-B888-807072AF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971AB-BE60-4716-8F03-93DE8CB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6FCD-B5E3-41FD-AF22-6AB7A77D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62500-2987-47F1-AE34-9C14790F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6389C-4FBC-4788-9782-4CDD7830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8F907-6DD7-4DBA-A465-96D014D2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5D5F6E-FC52-44B6-81F1-AFD32110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90E8A-C5DE-4058-B5CB-2360E952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4140-8B89-49AE-9338-485CEDD8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C551-6298-4637-A4F7-F45481F5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9B9-DB7A-4C2B-B19B-901C8A40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FDE6-4DD9-4CC2-B94D-16AE64C6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4D2-FE1A-43CD-A395-C5A3C005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603-D6C9-40DB-A605-E13A8DB5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FC7-62A7-4E11-8580-2D36D562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4875-647D-455B-B693-8BB1AC701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57E2-CA54-43AE-B73D-80AE803CB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structio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slide must have at least one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brief with your answers to the questions – you will have time to discuss in detail when you pres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creative!  Use format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groups members must particip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ki page has the templ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Your of Renewable Energy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 Na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_______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the Uses of ________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hat are the Environmental Effec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ere and how is it created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are the Drawback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15:23:09Z</dcterms:created>
  <dc:creator>ajohnson01</dc:creator>
  <dc:description/>
  <dc:language>en-US</dc:language>
  <cp:lastModifiedBy>BTSD</cp:lastModifiedBy>
  <dcterms:modified xsi:type="dcterms:W3CDTF">2011-04-15T12:15:11Z</dcterms:modified>
  <cp:revision>4</cp:revision>
  <dc:subject/>
  <dc:title>Your of Renewable Energy</dc:title>
</cp:coreProperties>
</file>